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9806A-A33C-433B-B536-5829D57D5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43D3A-D27D-4192-8BAF-609B0845C05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FF02-6807-4CAD-A69E-F12933383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4F63-02D1-477A-B10B-031F14631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5EA1-9DD7-47E9-81D1-6A924E40D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2BA2-053C-4CA1-918F-1BE198403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4B904-4EC1-4211-868C-5B0A5C85C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02B31-DB2C-408E-AC28-B3AC5D1A7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C3F74-5B67-4CA1-98F3-433D9ADAD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E2C07-E895-4F3C-B951-7276FC3B4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CFDDE-19E2-4B35-A9FB-19456531B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24CED-C383-4EB7-B14F-536163645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73B2A-9507-4FA7-BEE0-B59F2F34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08B1-EA95-42FE-AEE9-3EA042E3C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0EFD5-36DC-4D84-9E67-2BBF3226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687EF-5217-438A-A757-4D7A9019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28998-03C8-4BA4-9EBF-686C9E07D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B4B78-191C-422E-9848-69926E044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15132-2C0A-415E-88D6-7325D0AEA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FFA9-DAA0-4444-8966-DA7854102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F39E-17C3-418E-A143-8C66F5598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66DA-821A-4FE3-8673-19D68042B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DB12-0203-449F-8B68-F838F126A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2E8B-FDE4-412A-8D9D-89BAFB0B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1BD4-EC6C-4B33-AC5A-C3A8EF99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C128-CA38-44CD-AC7E-5F49CC0A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A8A81-D701-4848-9353-CD1DDDA43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2780C-087B-4703-B262-B52E6831D0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Unique Hatred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2895120"/>
            <a:ext cx="81532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How Was the Holocaust Possib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sed on a lecture delivered by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Karl Schleu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fessor or History, UNC-Greensbor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St. Augustine</a:t>
            </a:r>
            <a:r>
              <a:rPr b="1" lang="ja-JP" sz="3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s explan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ews were affected by Augustine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 teachin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ews are now seen as the obstacles to the coming of the Kingdom of Go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In the tenth century (900 AD)…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rench Bishop</a:t>
            </a:r>
            <a:r>
              <a:rPr b="0" lang="ja-JP" sz="3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 sermon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od divided people into three groups of importance [the three estates]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ergy (those who pray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oldiers [knights -- nobility] (those who fight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orkers (97%) (those who work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otice anyone missing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ews were excluded from the Medieval world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8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s means they couldn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 own land or have an honorable profession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Medieval Age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900 AD -1500 AD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he full scale demonization of the Jews by the church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ewish have magical pow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y are in league with the Devi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Women are also seen as being in league with the Devi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he Crusad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1096, the first crusade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European world has put itself together religiously, politically and economically and feels powerfu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ope Ervin the II gathers armies to restore the Holy land to Christianity (Under Islamic control for 400 year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rst Crusade is successful in wresting control of Jerusalem from Muslim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he Crusad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e twelfth century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erusalem is in Christian hand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night Emico marches towards the Holy Land with his troo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e decides the trip is too fa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e have enemies [infidels] among u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rched up the Rhine River and slaughtered over 12,000 Jewish peop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1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irst Reformation of the Church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534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w the church was the wealthiest institution, land owner (monasterie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lved into banking and money lend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s act is debated, chiefly by the Franciscans – Jesus would not approve of money lend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formed around 1189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king of interest is a si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hurch is separated from money lend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BUT … without interes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No economic activity or development. 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O… If Christians can</a:t>
            </a:r>
            <a:r>
              <a:rPr b="0" lang="ja-JP" sz="3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 lend money, the Jews can!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They were believed to be condemned anyway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nother layer of hate is added (economic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Stereotyp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ews are still viewed as Christ kill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ews become seen as greedy money lend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YET – in 1215, the biggest banking houses in the Middle Ages are still run by Christia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Declining respec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lations between the Jewish and Christians are so horrible that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e Jewish people had to be identified by a yellow sta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uring the Holy Week (before Easter), Jews should be locked up at home so that the Christians would not be tempted to sin and take reveng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Smaller question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07920" indent="-436320">
              <a:spcBef>
                <a:spcPts val="9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y the Jews (victims)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9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y the Germans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9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y Hitler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9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y Auschwitz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A new charge against Jew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Ritual Murd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 1144, around Easter in Norwich, a young Christian boy is murdere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urderer was hard to fin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harge spreads that the murderer must be a Jewish immigr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Jews required the blood of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Christian boy to mix the Passover br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Church Conference … 1215 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534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haired by Pope Innocent III (highly sophisticated man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ull explanation of the seven sacraments – according to the church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 teaching, these sacraments impart god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 grac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st important sacrament is the Eucharis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uring the celebration of the Eucharist, bread and wine turn magically and/or spiritually into the body and blood of Chris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1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Another false charge 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he sacrament desecration charge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nce Jews have already killed Christ, they try to kill him symbolically by stabbing the communion wafe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ews are to remain locked inside during Lent and Easter to keep from antagonizing Christian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he Black Death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rom 1348 and 1352, Bubonic Plague kills between 25 to 40 percent of the popul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y did this happen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d is punishing u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y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University of Paris doctors say that the disease is the result of the conjunction of the planets, Jupiter and Mars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1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1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Another possible explanation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ews are the reason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y don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 seem to be hit as hard by the plaqu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ut Jews did di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ven then, their deaths were seen as their commitment to do evi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6,000 Jewish people were locked into a barn/warehouse and burned to destroy evi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1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o, Jews were expelled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xpelled from England, from France, from the German and Italian state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 1492, Jews were expelled from Spain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ews most often ended up in Eastern Europe: Poland, Czechoslovakia, etc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Jewish ghetto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ewish ghettoes began in the 1400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ews were locked in the ghettoes at nigh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specially during Holy week when the presence of Jews might offend Christian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Prejudices enter Protestantism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hiefly through the writings of Martin Luthe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e writes favorably of the Jews, explaining he understands why they have not converted before – because of the corruption of the Christian Church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s a bitter old man, Luther writes a book titled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On the Jews and Their Lie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Modern - Enlightenmen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18th Century… Hope in the enlightenment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755- Jean Jacques Rousseau writes 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ssay on the Origins of the Inequality of Men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e questions that God divided the men into the three estat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e argues that God is not responsible for divisions in man; men have divided themselv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Modern - Enlightenmen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ousseau – intellectual father of the French Revolu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iberty.  Equality.  Fraternity.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omas Jefferson – Declaration of Independenc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hold these truths to be self-evident, that all men are created equal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Layers of hatre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aga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arly Christianit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eval Ag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oder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Modern Period – 19</a:t>
            </a:r>
            <a:r>
              <a:rPr b="1" lang="en-US" sz="36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Centur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 the 19th century, these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ideal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generated a call for th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mancipation of workers, peasants, women, slaves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mancipation of the Jew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emancipation movements were carried out in most countries except Russia, which controlled Eastern Europ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n 1791, in France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104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apoleon invites the Jewish people to become French men and wome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so invited by England, Italy, an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Germany,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mong others, to enjoy citizenshi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ews were being 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ssimilated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uch success was experienc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conomic advancement, Industrial Revolu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ew wealth opens opportunity for minor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850</a:t>
            </a:r>
            <a:r>
              <a:rPr b="1" lang="ja-JP" sz="3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s and 1860</a:t>
            </a:r>
            <a:r>
              <a:rPr b="1" lang="ja-JP" sz="3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s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104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he Jewish people were taking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Verdana"/>
              </a:rPr>
              <a:t>humbler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jobs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edicine (until the birth of germ-based theory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egal Profess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urnalis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850</a:t>
            </a:r>
            <a:r>
              <a:rPr b="1" lang="ja-JP" sz="3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s and 1860</a:t>
            </a:r>
            <a:r>
              <a:rPr b="1" lang="ja-JP" sz="3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s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ermany was the most literate country of the ti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aily newspaper invented in the 19th century.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ermany was the first nation to introduce compulsory elementary education at public expens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850</a:t>
            </a:r>
            <a:r>
              <a:rPr b="1" lang="ja-JP" sz="3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s and 1860</a:t>
            </a:r>
            <a:r>
              <a:rPr b="1" lang="ja-JP" sz="3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s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While in Germany, Jews become enthusiastic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We finally have a 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safe harbor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!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850</a:t>
            </a:r>
            <a:r>
              <a:rPr b="1" lang="ja-JP" sz="3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s and 1860</a:t>
            </a:r>
            <a:r>
              <a:rPr b="1" lang="ja-JP" sz="3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s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owever, Jews still faced Anti-Semitism in some plac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astern Europ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ogroms and Ritual murder charges continue, especially after the 1880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Czar tries to siphon off the resentments in Russia and channel them toward the Jew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ryfus affair – blamed a Jewish officer who was a member of the General Staff for French secrets being compromis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9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Birth of Modern Racism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854 – Frenchman Arthur de Gobineau writes 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ssay on the Inequality in the Races.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ather of modern racis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perior/Inferior races [most creative and superior: White northern Europeans]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ryan – white northern Europ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st Inferior – Parasitic Jew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Birth of Modern Racis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no such thing as a Jewish race or an Aryan race. In fact, most biologists consider 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ace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to be an antiquated notion. Genetic differences are insignificant biologically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idea of 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ace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was invented and justified with scientific languag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Darwinism/Social Darwinism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wo basic principl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atural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rvival of the Fittes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Darwin wrote about species, others applied to races. [Social Darwinism]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Darwinism/Social Darwinism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s misapplication of Darwin leads to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Eugenic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od birth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and by implication 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lective breeding.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IM: Encourage the birth of 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od children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and discourage the birth of 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ferior children.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lled for large scale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terilizatio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of inferiors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Pagans (2000 BC – AD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5341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Ancient World was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olytheistic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cient Hebrews introduce the concept of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onotheism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elief that Jews were God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 special chosen peopl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s lays the foundation of hatr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mplication to ancient pagans: Your religions are wro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Darwinism/Social Darwinism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y 1930, some 33 states in the US had sterilization laws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ly in 2004 did Gov. Easley of NC apologize for sterilization policies of the sta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BELIEF – Poor/Inferior races breed more rapid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verty and criminality are the product of inferior blood types and ge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n 1900, in Germany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ewish religious leaders concerned that the Jewish religion will be gone by the end of the century because of intermarriag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rmally gave up Judaism as their fait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ear of disappearance of the Jewish people/religion drove religious lead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9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4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n 1900, in Germany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 sophisticated European would think that Germany would be the ones to destroy the Jew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So what went wrong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orge Mosse and his family were driven out of Germany in 1933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is family moved to England and then moved to the U.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e received a doctorate in history from Harvard and spent his professional career trying to discover what went wrong in German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1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6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1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1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World War I (1914-191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1964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rmany was arguably the most powerful country in the worl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mon beliefs in Germany promoted by the German government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war will be short, over by Christm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rmany will win against foreign aggress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rmany has been attacked unfairl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war will establish Germany as the world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 leading pow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8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3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8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3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8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3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World War I (1914-191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rman enthusiasm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ole classes of graduates marched down to the recruitment offic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portionally more Jews volunteer to fight for Germany than other German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German 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ron Youth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expected a 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ero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 Christmas,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but the war did not work out that way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0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5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0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5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n 1916 …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 1916, the war was on a larger scal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unger/starv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rmans sacrificed to help the government/military while being told </a:t>
            </a:r>
            <a:r>
              <a:rPr b="1" i="1" lang="en-US" sz="2600" spc="-1" strike="noStrike">
                <a:solidFill>
                  <a:srgbClr val="000000"/>
                </a:solidFill>
                <a:latin typeface="Verdana"/>
              </a:rPr>
              <a:t>Germany is winning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 1917, Russia leaves World War I because of the Bolshevik Revolution. [Then the U.S. entered the war.]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2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5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8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1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n October 1918 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rmany seeks peace and admits defeat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ut the German people are now asking questions in the face of this suffering and defe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HAPPEN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8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3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8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reaty of Versailles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 April 1919, the Germans learn that they will not negotiate a treaty, but one will be imposed on the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rmany must sign 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nor clauses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cept 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ar guilt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rced to pay repar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cused of war crime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5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0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3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6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9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Burning Question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could we be winning this war for four years, and then surrender?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the public ask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y were we defeated?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Emperor is overthrown and the Republic establish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0" dur="indefinite" restart="never" nodeType="tmRoot">
          <p:childTnLst>
            <p:seq>
              <p:cTn id="1001" dur="indefinite" nodeType="mainSeq">
                <p:childTnLst>
                  <p:par>
                    <p:cTn id="1002" nodeType="clickEffect" fill="hold">
                      <p:stCondLst>
                        <p:cond delay="indefinite"/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6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1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6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Immediate Aftermath of WWI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yperinflation – money is worthles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4.2 trillion deutsche marks = One U.S. dolla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alue of deutsche mark changed throughout a day, so workers were paid twice a day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n U.S. dollars could buy a ten day vacation in the mountai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8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3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8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Early Christian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round 2000 years ago from 100 AD to 500 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esus is hailed as the Messiah (The son of God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ews did not accept this claim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y labeled Jesus as a trouble make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rucifixion around 27 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Enter Adolf Hitl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-year veteran of WW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e contends that the Jews are the proble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ll of the resentment from the beginning of time is engrained in his be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tler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 first attempt to seize power in 1923 – Beer Hall Putsc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5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5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0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Enter Adolf Hitl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UT After 1924, Germany begins to recover and Hitler disappea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azi Party receives 2.7% of vot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public was work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7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2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7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hen in 1929 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worldwide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depression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ts the German economy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Hitler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resumes his quest for power and wants to establish a Third Reich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tler is a charismatic politician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8" dur="indefinite" restart="never" nodeType="tmRoot">
          <p:childTnLst>
            <p:seq>
              <p:cTn id="1079" dur="indefinite" nodeType="mainSeq">
                <p:childTnLst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4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9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nodeType="clickEffect" fill="hold">
                      <p:stCondLst>
                        <p:cond delay="indefinite"/>
                      </p:stCondLst>
                      <p:childTnLst>
                        <p:par>
                          <p:cTn id="1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4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Hitler</a:t>
            </a:r>
            <a:r>
              <a:rPr b="1" lang="ja-JP" sz="3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s theory of propaganda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ll politicians have to li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ittle lies are found out, so telling little lies is a mistak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ig lie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is the key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peat the big lie until the people believe the li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ople will start thinking… must be some truth in what he say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nodeType="clickEffect" fill="hold">
                      <p:stCondLst>
                        <p:cond delay="indefinite"/>
                      </p:stCondLst>
                      <p:childTnLst>
                        <p:par>
                          <p:cTn id="1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nodeType="clickEffect" fill="hold">
                      <p:stCondLst>
                        <p:cond delay="indefinite"/>
                      </p:stCondLst>
                      <p:childTnLst>
                        <p:par>
                          <p:cTn id="1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6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1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Racist ideology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n inferior race is impeding the Aryan rac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ews stabbed Germany in the back during the wa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itler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 big li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e were winning; Jews betrayed us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ews, who run all the world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 capitals, pulled the string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Truth) Jews were honored in the wa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2" dur="indefinite" restart="never" nodeType="tmRoot">
          <p:childTnLst>
            <p:seq>
              <p:cTn id="1123" dur="indefinite" nodeType="mainSeq">
                <p:childTnLst>
                  <p:par>
                    <p:cTn id="1124" nodeType="clickEffect" fill="hold">
                      <p:stCondLst>
                        <p:cond delay="indefinite"/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8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nodeType="clickEffect" fill="hold">
                      <p:stCondLst>
                        <p:cond delay="indefinite"/>
                      </p:stCondLst>
                      <p:childTnLst>
                        <p:par>
                          <p:cTn id="1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3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8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nodeType="clickEffect" fill="hold">
                      <p:stCondLst>
                        <p:cond delay="indefinite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3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8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nodeType="clickEffect" fill="hold">
                      <p:stCondLst>
                        <p:cond delay="indefinite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3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Hitler</a:t>
            </a:r>
            <a:r>
              <a:rPr b="1" lang="ja-JP" sz="3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s Platfor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voke Jewish citizensh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move Jews from German life and medicine and journalism (because they are writing lie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construct the purity of Aryan/German rac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ews are trying to weasel their blood into ou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riginal Sin = mixing of r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0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5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nodeType="clickEffect" fill="hold">
                      <p:stCondLst>
                        <p:cond delay="indefinite"/>
                      </p:stCondLst>
                      <p:childTnLst>
                        <p:par>
                          <p:cTn id="1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0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nodeType="clickEffect" fill="hold">
                      <p:stCondLst>
                        <p:cond delay="indefinite"/>
                      </p:stCondLst>
                      <p:childTnLst>
                        <p:par>
                          <p:cTn id="1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5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nodeType="clickEffect" fill="hold">
                      <p:stCondLst>
                        <p:cond delay="indefinite"/>
                      </p:stCondLst>
                      <p:childTnLst>
                        <p:par>
                          <p:cTn id="1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0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e Warsaw Ghet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3" name="Picture 4" descr="warsaw ghetto"/>
          <p:cNvPicPr/>
          <p:nvPr/>
        </p:nvPicPr>
        <p:blipFill>
          <a:blip r:embed="rId1"/>
          <a:stretch/>
        </p:blipFill>
        <p:spPr>
          <a:xfrm>
            <a:off x="1143000" y="1676520"/>
            <a:ext cx="6781680" cy="42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Religious Persecu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Picture 5" descr="warsaw rabbis"/>
          <p:cNvPicPr/>
          <p:nvPr/>
        </p:nvPicPr>
        <p:blipFill>
          <a:blip r:embed="rId1"/>
          <a:stretch/>
        </p:blipFill>
        <p:spPr>
          <a:xfrm>
            <a:off x="1523880" y="1649520"/>
            <a:ext cx="6172200" cy="44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Hitler</a:t>
            </a:r>
            <a:r>
              <a:rPr b="1" lang="ja-JP" sz="3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s Platfor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104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store Germany to its rightful position in the worl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quer living sp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urify and multiply the Aryan r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erilization and infanticid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6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aises Spartans for abandoning inferior babi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6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terilization of Germans of African extraction (born in 1919-1921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1" dur="indefinite" restart="never" nodeType="tmRoot">
          <p:childTnLst>
            <p:seq>
              <p:cTn id="1182" dur="indefinite" nodeType="mainSeq">
                <p:childTnLst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7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nodeType="clickEffect" fill="hold">
                      <p:stCondLst>
                        <p:cond delay="indefinite"/>
                      </p:stCondLst>
                      <p:childTnLst>
                        <p:par>
                          <p:cTn id="1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2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nodeType="clickEffect" fill="hold">
                      <p:stCondLst>
                        <p:cond delay="indefinite"/>
                      </p:stCondLst>
                      <p:childTnLst>
                        <p:par>
                          <p:cTn id="1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7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nodeType="clickEffect" fill="hold">
                      <p:stCondLst>
                        <p:cond delay="indefinite"/>
                      </p:stCondLst>
                      <p:childTnLst>
                        <p:par>
                          <p:cTn id="1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2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nodeType="clickEffect" fill="hold">
                      <p:stCondLst>
                        <p:cond delay="indefinite"/>
                      </p:stCondLst>
                      <p:childTnLst>
                        <p:par>
                          <p:cTn id="1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7" dur="5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nodeType="clickEffect" fill="hold">
                      <p:stCondLst>
                        <p:cond delay="indefinite"/>
                      </p:stCondLst>
                      <p:childTnLst>
                        <p:par>
                          <p:cTn id="1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2" dur="5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arrying out his pla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scrimination legisl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izure of property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gregation of the Jews (kicked out of teaching positions and governmental positions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rced emigr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es euthanasia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3" dur="indefinite" restart="never" nodeType="tmRoot">
          <p:childTnLst>
            <p:seq>
              <p:cTn id="1214" dur="indefinite" nodeType="mainSeq">
                <p:childTnLst>
                  <p:par>
                    <p:cTn id="1215" nodeType="clickEffect" fill="hold">
                      <p:stCondLst>
                        <p:cond delay="indefinite"/>
                      </p:stCondLst>
                      <p:childTnLst>
                        <p:par>
                          <p:cTn id="1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9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nodeType="clickEffect" fill="hold">
                      <p:stCondLst>
                        <p:cond delay="indefinite"/>
                      </p:stCondLst>
                      <p:childTnLst>
                        <p:par>
                          <p:cTn id="1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4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nodeType="clickEffect" fill="hold">
                      <p:stCondLst>
                        <p:cond delay="indefinite"/>
                      </p:stCondLst>
                      <p:childTnLst>
                        <p:par>
                          <p:cTn id="1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9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nodeType="clickEffect" fill="hold">
                      <p:stCondLst>
                        <p:cond delay="indefinite"/>
                      </p:stCondLst>
                      <p:childTnLst>
                        <p:par>
                          <p:cTn id="1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4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nodeType="clickEffect" fill="hold">
                      <p:stCondLst>
                        <p:cond delay="indefinite"/>
                      </p:stCondLst>
                      <p:childTnLst>
                        <p:par>
                          <p:cTn id="1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9" dur="5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rucifixion of Jesus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104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ilate tries to have the crowd ask to put someone else to death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ews blamed for killing the son of Go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ewish people asked what to do with Jesu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rowd said: Let him be crucified … and his blood will be on us and our children (Matt 27:25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rings the charge: Jews were 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hrist killers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What is a Jew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problem is defining who is a Jew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 government official must prove that he is not Jewish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yan paragraph – 1933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nd their baptismal certifica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0" dur="indefinite" restart="never" nodeType="tmRoot">
          <p:childTnLst>
            <p:seq>
              <p:cTn id="1241" dur="indefinite" nodeType="mainSeq">
                <p:childTnLst>
                  <p:par>
                    <p:cTn id="1242" nodeType="clickEffect" fill="hold">
                      <p:stCondLst>
                        <p:cond delay="indefinite"/>
                      </p:stCondLst>
                      <p:childTnLst>
                        <p:par>
                          <p:cTn id="1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6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nodeType="clickEffect" fill="hold">
                      <p:stCondLst>
                        <p:cond delay="indefinite"/>
                      </p:stCondLst>
                      <p:childTnLst>
                        <p:par>
                          <p:cTn id="1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1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6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nodeType="clickEffect" fill="hold">
                      <p:stCondLst>
                        <p:cond delay="indefinite"/>
                      </p:stCondLst>
                      <p:childTnLst>
                        <p:par>
                          <p:cTn id="1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1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Nuremberg Laws (1935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ewish if descended from 3 or 4 Jewish grandpar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e grandparent – mischling (mixed ancestry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ll those who work for the government must cooperat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oard game in 1934 called 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tting Rid of Jews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2" dur="indefinite" restart="never" nodeType="tmRoot">
          <p:childTnLst>
            <p:seq>
              <p:cTn id="1263" dur="indefinite" nodeType="mainSeq">
                <p:childTnLst>
                  <p:par>
                    <p:cTn id="1264" nodeType="clickEffect" fill="hold">
                      <p:stCondLst>
                        <p:cond delay="indefinite"/>
                      </p:stCondLst>
                      <p:childTnLst>
                        <p:par>
                          <p:cTn id="1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8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nodeType="clickEffect" fill="hold">
                      <p:stCondLst>
                        <p:cond delay="indefinite"/>
                      </p:stCondLst>
                      <p:childTnLst>
                        <p:par>
                          <p:cTn id="1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3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nodeType="clickEffect" fill="hold">
                      <p:stCondLst>
                        <p:cond delay="indefinite"/>
                      </p:stCondLst>
                      <p:childTnLst>
                        <p:par>
                          <p:cTn id="1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8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nodeType="clickEffect" fill="hold">
                      <p:stCondLst>
                        <p:cond delay="indefinite"/>
                      </p:stCondLst>
                      <p:childTnLst>
                        <p:par>
                          <p:cTn id="1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3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Nazis: </a:t>
            </a:r>
            <a:r>
              <a:rPr b="1" lang="ja-JP" sz="3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Problem of Jews</a:t>
            </a:r>
            <a:r>
              <a:rPr b="1" lang="ja-JP" sz="3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Nazis conquered Poland – and many Jews lived in Poland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azis begin establishing ghetto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y mid-summer of 1941, Hitler seems to have been successful in conquest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t the height of power, Hitler decides he can now discuss building factories of death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4" dur="indefinite" restart="never" nodeType="tmRoot">
          <p:childTnLst>
            <p:seq>
              <p:cTn id="1285" dur="indefinite" nodeType="mainSeq">
                <p:childTnLst>
                  <p:par>
                    <p:cTn id="1286" nodeType="clickEffect" fill="hold">
                      <p:stCondLst>
                        <p:cond delay="indefinite"/>
                      </p:stCondLst>
                      <p:childTnLst>
                        <p:par>
                          <p:cTn id="1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0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nodeType="clickEffect" fill="hold">
                      <p:stCondLst>
                        <p:cond delay="indefinite"/>
                      </p:stCondLst>
                      <p:childTnLst>
                        <p:par>
                          <p:cTn id="1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5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nodeType="clickEffect" fill="hold">
                      <p:stCondLst>
                        <p:cond delay="indefinite"/>
                      </p:stCondLst>
                      <p:childTnLst>
                        <p:par>
                          <p:cTn id="1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0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nodeType="clickEffect" fill="hold">
                      <p:stCondLst>
                        <p:cond delay="indefinite"/>
                      </p:stCondLst>
                      <p:childTnLst>
                        <p:par>
                          <p:cTn id="1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5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Bodies at Buchenwal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" name="Picture 5" descr="buchen bodies"/>
          <p:cNvPicPr/>
          <p:nvPr/>
        </p:nvPicPr>
        <p:blipFill>
          <a:blip r:embed="rId1"/>
          <a:stretch/>
        </p:blipFill>
        <p:spPr>
          <a:xfrm>
            <a:off x="1905120" y="1719360"/>
            <a:ext cx="510516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Bodies at Dacha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Picture 5" descr="dachau dead"/>
          <p:cNvPicPr/>
          <p:nvPr/>
        </p:nvPicPr>
        <p:blipFill>
          <a:blip r:embed="rId1"/>
          <a:stretch/>
        </p:blipFill>
        <p:spPr>
          <a:xfrm>
            <a:off x="1600200" y="1665360"/>
            <a:ext cx="624852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Dachau survivors in the block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Picture 5" descr="camp survivors"/>
          <p:cNvPicPr/>
          <p:nvPr/>
        </p:nvPicPr>
        <p:blipFill>
          <a:blip r:embed="rId1"/>
          <a:stretch/>
        </p:blipFill>
        <p:spPr>
          <a:xfrm>
            <a:off x="1905120" y="1752480"/>
            <a:ext cx="54864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End Resul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 million of Europe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 11 million Jews are kille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f that number, 1.5 million are childr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y summer of 1942, the United States was aware of what was happening in the death camps in Poland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6" dur="indefinite" restart="never" nodeType="tmRoot">
          <p:childTnLst>
            <p:seq>
              <p:cTn id="1307" dur="indefinite" nodeType="mainSeq">
                <p:childTnLst>
                  <p:par>
                    <p:cTn id="1308" nodeType="clickEffect" fill="hold">
                      <p:stCondLst>
                        <p:cond delay="indefinite"/>
                      </p:stCondLst>
                      <p:childTnLst>
                        <p:par>
                          <p:cTn id="1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2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nodeType="clickEffect" fill="hold">
                      <p:stCondLst>
                        <p:cond delay="indefinite"/>
                      </p:stCondLst>
                      <p:childTnLst>
                        <p:par>
                          <p:cTn id="1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7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nodeType="clickEffect" fill="hold">
                      <p:stCondLst>
                        <p:cond delay="indefinite"/>
                      </p:stCondLst>
                      <p:childTnLst>
                        <p:par>
                          <p:cTn id="1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2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In the year 300…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1964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hristianity wins over the Roma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stantine orders an 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edict of toler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390 A.D. – Christianity is the official Roman relig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aganism is forbidd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In the year 410…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rmanic tribes sacked city of Rom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This experience, which occurred over three days, was akin to 9-11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rmanic Barbarians break into Rome and pillage and rape and burn Rom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aised the question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re was God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 protection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St. Augustine</a:t>
            </a:r>
            <a:r>
              <a:rPr b="1" lang="ja-JP" sz="3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s explanation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424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ugustine wrot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The City of God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d was not in the business of protecting cities of man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d was concerned with the City of Go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arth was a testing groun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version of Jews to Christianity will signal the return of Jesu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0T00:46:57Z</dcterms:created>
  <dc:creator>Michael Parker</dc:creator>
  <dc:description/>
  <dc:language>en-US</dc:language>
  <cp:lastModifiedBy>Sachelle Phipps</cp:lastModifiedBy>
  <dcterms:modified xsi:type="dcterms:W3CDTF">2012-12-02T05:33:34Z</dcterms:modified>
  <cp:revision>18</cp:revision>
  <dc:subject/>
  <dc:title>Unique Hatred </dc:title>
</cp:coreProperties>
</file>